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E6E2-4AC0-4A66-9A17-7E4450CA6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3E7D-3B9D-4040-A9FA-CFC07E2A0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4B30-0854-485F-B1FA-2B8A3596A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80E4-7EA8-47FC-A959-038BE6669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EB86-73B0-4064-BBDD-9ED40E722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E247-58E0-482B-8D15-63813D203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1ED6-98F8-4881-B5E4-C270667ED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8480-7259-4A67-BB21-2AB5FF525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8B4A-D161-460D-80AB-AF7E32A4D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21C8-39E8-4617-AC8A-1E9FFC441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FF53-21AD-4066-B3E5-8CD849346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3448-4D87-4A58-9FF7-DD30B057A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8BD8D-742D-4941-8001-334FD24419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5400" spc="-1" strike="noStrike">
                <a:solidFill>
                  <a:srgbClr val="000000"/>
                </a:solidFill>
                <a:latin typeface="Comic Sans MS"/>
              </a:rPr>
              <a:t>La classific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3200" spc="-1" strike="noStrike">
                <a:solidFill>
                  <a:srgbClr val="000000"/>
                </a:solidFill>
                <a:latin typeface="Comic Sans MS"/>
              </a:rPr>
              <a:t>La diversité de la vi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76720" y="4419720"/>
            <a:ext cx="289548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Comic Sans MS"/>
              </a:rPr>
              <a:t>La class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mic Sans MS"/>
              </a:rPr>
              <a:t>Tu regardes un échantillon d’eau d’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mic Sans MS"/>
              </a:rPr>
              <a:t>étang et tu vois des micro-organismes. Chacun s’organise en groupe. Les vertébrés par exemple, comprennent 5 grandes famill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mic Sans MS"/>
              </a:rPr>
              <a:t>les mammifè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mic Sans MS"/>
              </a:rPr>
              <a:t>les oisea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mic Sans MS"/>
              </a:rPr>
              <a:t>les rep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mic Sans MS"/>
              </a:rPr>
              <a:t>les batraci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mic Sans MS"/>
              </a:rPr>
              <a:t>les poisson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105520" y="3886200"/>
            <a:ext cx="329544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000000"/>
                </a:solidFill>
                <a:latin typeface="Comic Sans MS"/>
              </a:rPr>
              <a:t>La classification</a:t>
            </a:r>
            <a:br>
              <a:rPr sz="4000"/>
            </a:br>
            <a:r>
              <a:rPr b="1" lang="fr-CA" sz="4000" spc="-1" strike="noStrike">
                <a:solidFill>
                  <a:srgbClr val="000000"/>
                </a:solidFill>
                <a:latin typeface="Comic Sans MS"/>
              </a:rPr>
              <a:t>Vivant ou non-vivant</a:t>
            </a:r>
            <a:r>
              <a:rPr b="0" lang="fr-CA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mic Sans MS"/>
              </a:rPr>
              <a:t>Un arbre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mic Sans MS"/>
              </a:rPr>
              <a:t>La Terre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mic Sans MS"/>
              </a:rPr>
              <a:t>Un nuage…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mic Sans MS"/>
              </a:rPr>
              <a:t>Des sous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mic Sans MS"/>
              </a:rPr>
              <a:t>Le soleil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mic Sans MS"/>
              </a:rPr>
              <a:t>L’herbe……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mic Sans MS"/>
              </a:rPr>
              <a:t>La télévision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mic Sans MS"/>
              </a:rPr>
              <a:t>Une auto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mic Sans MS"/>
              </a:rPr>
              <a:t>La table……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mic Sans MS"/>
              </a:rPr>
              <a:t>Vivant  ou  non-viv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mic Sans MS"/>
              </a:rPr>
              <a:t>Vivant  ou  non-viv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mic Sans MS"/>
              </a:rPr>
              <a:t>Vivant  ou  non-viv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mic Sans MS"/>
              </a:rPr>
              <a:t>Vivant  ou  non-viv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mic Sans MS"/>
              </a:rPr>
              <a:t>Vivant  ou  non-viv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mic Sans MS"/>
              </a:rPr>
              <a:t>Vivant  ou  non-viv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mic Sans MS"/>
              </a:rPr>
              <a:t>Vivant  ou  non-viv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mic Sans MS"/>
              </a:rPr>
              <a:t>Vivant  ou  non-viv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mic Sans MS"/>
              </a:rPr>
              <a:t>Vivant  ou  non-viv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553160" y="0"/>
            <a:ext cx="12128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000000"/>
                </a:solidFill>
                <a:latin typeface="Comic Sans MS"/>
              </a:rPr>
              <a:t>Les arthropodes</a:t>
            </a:r>
            <a:br>
              <a:rPr sz="4000"/>
            </a:br>
            <a:r>
              <a:rPr b="1" lang="fr-CA" sz="4000" spc="-1" strike="noStrike">
                <a:solidFill>
                  <a:srgbClr val="000000"/>
                </a:solidFill>
                <a:latin typeface="Comic Sans MS"/>
              </a:rPr>
              <a:t>et</a:t>
            </a:r>
            <a:br>
              <a:rPr sz="4000"/>
            </a:br>
            <a:r>
              <a:rPr b="1" lang="fr-CA" sz="4000" spc="-1" strike="noStrike">
                <a:solidFill>
                  <a:srgbClr val="000000"/>
                </a:solidFill>
                <a:latin typeface="Comic Sans MS"/>
              </a:rPr>
              <a:t>les insec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mic Sans MS"/>
              </a:rPr>
              <a:t>Les caractéristiques d’un arthropod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mic Sans MS"/>
              </a:rPr>
              <a:t>Les caractéristiques d’un insect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934320" y="304920"/>
            <a:ext cx="1854000" cy="13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omic Sans MS"/>
              </a:rPr>
              <a:t>Les invertébr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Les invertébrés sont divisés en 4 grandes famil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les crustac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les insec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les mollus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les arachn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191120" y="2286000"/>
            <a:ext cx="3835440" cy="41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Lucida Calligraphy"/>
              </a:rPr>
              <a:t>Le perroqu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Comic Sans MS"/>
              </a:rPr>
              <a:t>Le perroquet fait partie de la famille des vertébrés. Il se classe dans la catégorie des oiseaux. Il a des plumes mais il n’a pas de dents. Au Vénézuela, certains perroquets peuvent être vendus pour 100 000$ !! Le perroquet est un oiseau très intelligent. Il peut être très bruyant et faire des sons qui ressemble beaucoup à aux sons des êtres humains. Le perroquet peut vivre de 10 à 60 ans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705720" y="0"/>
            <a:ext cx="243828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Lucida Calligraphy"/>
              </a:rPr>
              <a:t>Les insectes ou les arachnid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mic Sans MS"/>
              </a:rPr>
              <a:t>Les insectes sont assez bizarres!  Elles sont les « cousines » des arthropodes!  Les insectes ont </a:t>
            </a:r>
            <a:r>
              <a:rPr b="1" lang="fr-CA" sz="2800" spc="-1" strike="noStrike" u="sng">
                <a:solidFill>
                  <a:srgbClr val="000000"/>
                </a:solidFill>
                <a:uFillTx/>
                <a:latin typeface="Comic Sans MS"/>
              </a:rPr>
              <a:t>six pattes</a:t>
            </a:r>
            <a:r>
              <a:rPr b="1" lang="fr-CA" sz="2800" spc="-1" strike="noStrike">
                <a:solidFill>
                  <a:srgbClr val="000000"/>
                </a:solidFill>
                <a:latin typeface="Comic Sans MS"/>
              </a:rPr>
              <a:t> , </a:t>
            </a:r>
            <a:r>
              <a:rPr b="1" lang="fr-CA" sz="2800" spc="-1" strike="noStrike" u="sng">
                <a:solidFill>
                  <a:srgbClr val="000000"/>
                </a:solidFill>
                <a:uFillTx/>
                <a:latin typeface="Comic Sans MS"/>
              </a:rPr>
              <a:t>quatre ailes</a:t>
            </a:r>
            <a:r>
              <a:rPr b="1" lang="fr-CA" sz="2800" spc="-1" strike="noStrike">
                <a:solidFill>
                  <a:srgbClr val="000000"/>
                </a:solidFill>
                <a:latin typeface="Comic Sans MS"/>
              </a:rPr>
              <a:t> et </a:t>
            </a:r>
            <a:r>
              <a:rPr b="1" lang="fr-CA" sz="2800" spc="-1" strike="noStrike" u="sng">
                <a:solidFill>
                  <a:srgbClr val="000000"/>
                </a:solidFill>
                <a:uFillTx/>
                <a:latin typeface="Comic Sans MS"/>
              </a:rPr>
              <a:t>deux antennes</a:t>
            </a:r>
            <a:r>
              <a:rPr b="1" lang="fr-CA" sz="2800" spc="-1" strike="noStrike">
                <a:solidFill>
                  <a:srgbClr val="000000"/>
                </a:solidFill>
                <a:latin typeface="Comic Sans MS"/>
              </a:rPr>
              <a:t>. Mais ATTENTION! , les araignées ne sont pas des insectes, mais des arachnid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mic Sans MS"/>
              </a:rPr>
              <a:t>Les arachnides font partie du groupe des arthropodes:  Elles ont </a:t>
            </a:r>
            <a:r>
              <a:rPr b="1" lang="fr-CA" sz="2800" spc="-1" strike="noStrike" u="sng">
                <a:solidFill>
                  <a:srgbClr val="000000"/>
                </a:solidFill>
                <a:uFillTx/>
                <a:latin typeface="Comic Sans MS"/>
              </a:rPr>
              <a:t>quatre paires de</a:t>
            </a:r>
            <a:r>
              <a:rPr b="1" lang="fr-C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CA" sz="2800" spc="-1" strike="noStrike" u="sng">
                <a:solidFill>
                  <a:srgbClr val="000000"/>
                </a:solidFill>
                <a:uFillTx/>
                <a:latin typeface="Comic Sans MS"/>
              </a:rPr>
              <a:t>pattes</a:t>
            </a:r>
            <a:r>
              <a:rPr b="1" lang="fr-CA" sz="2800" spc="-1" strike="noStrike">
                <a:solidFill>
                  <a:srgbClr val="000000"/>
                </a:solidFill>
                <a:latin typeface="Comic Sans MS"/>
              </a:rPr>
              <a:t>, elles n’ont pas d’ailes et n’ont pas d’anten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854360" cy="13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7T16:56:54Z</dcterms:created>
  <dc:creator>nbdoe</dc:creator>
  <dc:description/>
  <dc:language>en-US</dc:language>
  <cp:lastModifiedBy>nbdoe</cp:lastModifiedBy>
  <dcterms:modified xsi:type="dcterms:W3CDTF">2008-10-28T16:59:20Z</dcterms:modified>
  <cp:revision>8</cp:revision>
  <dc:subject/>
  <dc:title>La classification</dc:title>
</cp:coreProperties>
</file>